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141376"/>
        <c:axId val="25940721"/>
      </c:barChart>
      <c:catAx>
        <c:axId val="941413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40721"/>
        <c:crosses val="autoZero"/>
        <c:auto val="1"/>
        <c:lblAlgn val="ctr"/>
        <c:lblOffset val="100"/>
        <c:noMultiLvlLbl val="0"/>
      </c:catAx>
      <c:valAx>
        <c:axId val="259407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413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C16B-9385-40F9-86C8-CB994642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FF57-F4FE-405F-9A79-6A1094A7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8961-5B65-4952-A6D3-6667FEF2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74F1-8732-4806-8E62-A769EC74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5C23-1EE3-43CC-B704-FB9F9B2B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05EE-3D14-44F9-8207-5E584082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B649-0DD4-4CCE-8C70-8425E7BA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3F62-A916-4E8C-836E-1463D66F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72C6-0F49-4FC1-AD03-C9ACD6E4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E54A-867A-4388-AB96-EB2A5A1B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6656-6109-44E0-B76F-406C5C38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D3AA-7DF5-491F-BA00-7B2D8E55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D45BB-7596-447B-8FD4-5FF45C5D5E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