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81212"/>
        <c:axId val="61416621"/>
      </c:barChart>
      <c:catAx>
        <c:axId val="93781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16621"/>
        <c:crosses val="autoZero"/>
        <c:auto val="1"/>
        <c:lblAlgn val="ctr"/>
        <c:lblOffset val="100"/>
        <c:noMultiLvlLbl val="0"/>
      </c:catAx>
      <c:valAx>
        <c:axId val="61416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1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6B8-1D7A-4332-BF6E-229BA532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19A-6D1C-41A7-BD88-515F7854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DC9-DB02-46DF-B011-FD019401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CF2-CDC9-499A-A869-2403511D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D93-EF29-420F-849F-69CDF09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D2E-CA3A-40BA-B256-E253C5DF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8A1-FF4F-4A95-BEA3-076B0C3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F04-DCCE-47EC-ACEA-E3A1484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0ED-3C90-4C21-9A2E-BD557F3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3D9-5BC1-4040-A05D-3D1A4AB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819-4F7A-44C3-8FE0-C6CAE3D6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834-CE84-406D-B685-795B96C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55BAC-489A-4759-8D83-11E9E0348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