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3764"/>
        <c:axId val="69070227"/>
      </c:barChart>
      <c:catAx>
        <c:axId val="9483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70227"/>
        <c:crosses val="autoZero"/>
        <c:auto val="1"/>
        <c:lblAlgn val="ctr"/>
        <c:lblOffset val="100"/>
        <c:noMultiLvlLbl val="0"/>
      </c:catAx>
      <c:valAx>
        <c:axId val="69070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3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45FA-B192-485C-809F-08548539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0BF-A7D0-4805-96A5-4A6554AD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863-09F7-47CC-80DD-D2C90671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2D5-F247-438F-963E-88E3ED3E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2FD-C488-4B8E-8443-49CB002E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BC3-7FFC-4459-8E30-A1DA4217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8B1-AD83-4679-875C-86B1A17B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708-1D1D-4DE9-A054-FE2F1D3B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B45-76C5-4C72-8C1E-CF60DC6D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A2E-AFC6-4B7E-962E-4B414F84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D98-2BDA-4EAA-984E-5379F917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44F-152F-4898-94D6-115CD520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D78B1-B131-45BD-9705-3E1C07DE22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