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74441"/>
        <c:axId val="84157761"/>
      </c:barChart>
      <c:catAx>
        <c:axId val="40474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57761"/>
        <c:crosses val="autoZero"/>
        <c:auto val="1"/>
        <c:lblAlgn val="ctr"/>
        <c:lblOffset val="100"/>
        <c:noMultiLvlLbl val="0"/>
      </c:catAx>
      <c:valAx>
        <c:axId val="84157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74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224-9E85-453A-B7D1-0B950354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401-2C17-4822-ACA2-89E34851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0CC-730A-44D5-BA5F-16ED61EA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D70-528A-43D7-A9EC-5B3C3659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A4F-1FC3-4AAB-9100-E4715B78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9C0-B355-4F5A-9B8C-DF50A07A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FA1-A3B1-4068-B0C6-830FB90E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76A-EC74-42FC-BC9C-F5D35EDC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C30-E04B-4208-B7C2-4B67B35A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85D-0401-4C18-99F9-66912B86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DA3-370C-417C-86DA-0A0A6A1D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7D6-2938-4152-AF9D-885DA81E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4C985-4302-41C9-A367-185B94E3B3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