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92681"/>
        <c:axId val="8686954"/>
      </c:barChart>
      <c:catAx>
        <c:axId val="62926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6954"/>
        <c:crosses val="autoZero"/>
        <c:auto val="1"/>
        <c:lblAlgn val="ctr"/>
        <c:lblOffset val="100"/>
        <c:noMultiLvlLbl val="0"/>
      </c:catAx>
      <c:valAx>
        <c:axId val="86869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26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6EC-6949-46DC-B51B-A3A54E8A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14B-4E88-4FC0-BF2D-38FC68E3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A3E-C8D1-4928-904B-DAAB3DA30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464D-4B3C-401F-BD67-EC19B613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89EC-D12C-42F7-B814-23137A0E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623E-DE43-43CB-B667-CDEBFA15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30E-6B81-4AD3-A3C1-2F1CF3D0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E34-A14D-4391-98A5-B0D1C72E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CED-E6AC-4B25-9BBB-BF57FDC3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9781-690D-486C-BD27-FEC9ED69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3CF-5D09-4E09-88BE-8CC59D8C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3AAB-4667-4A9B-BEE6-51DCF7C2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7CFFF-2EEF-44CB-B554-0911157399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