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65820"/>
        <c:axId val="95772531"/>
      </c:barChart>
      <c:catAx>
        <c:axId val="13865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72531"/>
        <c:crosses val="autoZero"/>
        <c:auto val="1"/>
        <c:lblAlgn val="ctr"/>
        <c:lblOffset val="100"/>
        <c:noMultiLvlLbl val="0"/>
      </c:catAx>
      <c:valAx>
        <c:axId val="95772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65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662-24A8-4060-8009-16026220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226-0853-476E-9A80-002B5B97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9AF-B449-4671-ACA9-8875C201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113-30BD-4D12-992A-A945509F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5FB-2610-4CA6-A502-154DF9D7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5D0-8A8D-4173-935C-2AA9B939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7F4-D2F5-4F65-99A0-4B68BDB7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233-F0F0-4C70-A705-0CC8D3A8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82A-5A48-41A7-B91D-A9BC63D1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0AB-601C-4792-A229-4035007B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F1D5-F45E-4276-BC1C-1DC20553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704-CCAB-479C-B2F7-01059405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7C570-4307-4461-82FD-A25B09B26E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