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966706"/>
        <c:axId val="14129969"/>
      </c:barChart>
      <c:catAx>
        <c:axId val="989667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29969"/>
        <c:crosses val="autoZero"/>
        <c:auto val="1"/>
        <c:lblAlgn val="ctr"/>
        <c:lblOffset val="100"/>
        <c:noMultiLvlLbl val="0"/>
      </c:catAx>
      <c:valAx>
        <c:axId val="14129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667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2C0B-2DE5-4C00-870E-37E06778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C937-D744-4DC3-8324-F0723922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D475-62ED-480C-A5BF-D90C3868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F1C0-294C-4CE7-9775-4BB45826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4E20-4B15-4272-95BF-B412260C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8CBA-0603-4A4F-976F-8AD51542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5753-102C-4833-9E09-FBC264D9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C83C-7E48-49C2-BC2B-1EF1ECB5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2C06-9877-470B-A6C9-492B219A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51FB-BDBD-4AF0-B730-D6F315AE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8497-7F0E-4F1B-91B4-11D51D11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8AD3-C6C2-4510-8A24-C4642F41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7EBA6-B147-4EBE-90BA-CCBFAF07B4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