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97382"/>
        <c:axId val="27515470"/>
      </c:barChart>
      <c:catAx>
        <c:axId val="63497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5470"/>
        <c:crosses val="autoZero"/>
        <c:auto val="1"/>
        <c:lblAlgn val="ctr"/>
        <c:lblOffset val="100"/>
        <c:noMultiLvlLbl val="0"/>
      </c:catAx>
      <c:valAx>
        <c:axId val="27515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7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768-EA53-4880-B56B-5FEA1507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9AB-1A7D-44B2-ABA3-A7B8A1DC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6BA-971C-458A-9C6B-8081C8F2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B4F-666A-43CB-8267-72E102D3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DED-FC93-4BD4-92D6-3935861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75-29A7-4BF8-BA92-18DB889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BB5-B171-4854-8F09-D89195C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6FD-1848-4A12-8F6E-D861572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E97-D318-4732-A3E0-121EE47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A16-E0DE-40F4-9AC1-6A35F2E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111-FF3C-46BB-B461-CECA369F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48D-9DB2-46C6-B690-C9ACD0B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24450-B9F8-4EC1-A725-92CF730F26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